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32B-D65B-4A87-A6CF-09AF0223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16F-B00D-436C-8B65-E8F6E3C3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E33C4-6C7F-490F-AEE3-B55E97A6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35515-CE21-46EC-A1C7-ED2C2403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02649-31C9-4787-A222-0F1D73ED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778B8-0300-49B7-B7B5-740DD78B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FC28E-E004-4FD8-9A48-2ACE3EA1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608C8-6251-4556-9913-3E9A90F2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60911-893A-4673-9280-CEFA00EC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57491-BE9D-4D09-88F7-F7009963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E8F07-C666-4B66-8E6F-D5D599CF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02B4E-1954-41FF-96C1-1BF026C6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511-2E6F-4DEE-9800-B258FDD2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C540B-6E9A-4103-B5CE-14ACFD2E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C88CC-831E-4959-810D-34A1050D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48136-F94E-44ED-80CF-AE1356F8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FCD4E-8793-4D34-A24B-00487590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F16B4-F521-4CDA-A146-A35DC0A6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8DA4F-2BD8-4343-986D-5501B6D3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57AB9-07B8-411F-A77C-16768BCF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E007D-3E17-4143-A134-C7EE241E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1BDE8-FC3C-409F-A6BB-AFBF42E0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88073-120A-4874-8500-6B617E14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FA2-8A1B-416E-8BF9-EED491B1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D26BF-CF72-4466-A381-839CCB91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7E2D29-6931-450E-91F5-0482F610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9FCE89-6BBD-4381-9E02-7E3A7E01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0D7E4C-DB90-4477-9F76-DAD6F8D7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015613-0A9F-4805-8197-4340235D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B34EBA-192A-49CA-98F9-3C3FCDCE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DFB8FF-4136-4E6C-94D5-2C7F64BA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EA0835-15B7-416C-8C6B-50ADAD42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B6F0F2-D400-4D8A-8492-186A993C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6B41FE-2A91-4001-9F0E-891CD2E8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D553-408A-4C3E-A564-8A612608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75F527-0D9E-48E7-91E3-52BF88B3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4E6095-E6AA-4776-8E7B-90A5CDDE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E6A620-6004-43EB-A6F6-A5620546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8F719-F3A2-4EE0-934F-B1C0F575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80E19-6532-47C8-9984-5DB99814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F1C8E-6D4F-46FE-9696-07891ADC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5E6EE-F4F8-4CE2-BDAF-88096EE5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C1B55-A7FF-4E12-905A-ABEB39EE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B93DF-F448-4F3F-8DCE-7205A1E0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18333-CFA0-4D59-A753-C61ECF0F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BCD2-6A11-4081-845C-041E5E6E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D6C19-D3B0-42B1-9852-352E6556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255FB-0ECF-4A5F-B2AE-7620471D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48A6C-4994-4918-9F18-109E9920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80BEC-A323-4706-8253-B9FB7F28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AF7CE-DD04-433D-B92A-7F30A13E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6E3F3-AAB4-4857-AC6E-B91387C8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522F7-69FF-4EA7-B14A-8FA4AEEB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DBBAE-C772-44A1-98F9-A297A230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D8135-F256-40B2-9F64-475B3DA8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63D2C-F636-40F2-8BDD-2AB881D9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42BD-0200-4E57-A379-492D901C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7CA15-AEDE-4183-92CB-BBD6FA30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74581-CCDF-467B-B683-1A1A586F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56EF4-936B-49F5-9A3B-B04046BA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1D9D4-E6FA-4A7C-8E8F-A63EA014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200B5-8B52-45C6-BE19-920D3F26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9CA61-9BCE-4331-8618-553ABB79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94574F-A349-48DC-9823-D559EBB0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1AB5C-C5F8-4552-A6F8-4311AE3E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884D5-AF91-48AD-A780-8A9D6666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85F95-4BFB-4176-9F02-0655DDD2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C28F-0BA6-44A6-B6FD-1AB7F116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FBB39-5F31-44CA-9865-37F54025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5297A-EEB9-41B2-B35B-22568C11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7668EB-0FE8-4F27-AD67-5BEEFA9A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4BE382-E9C5-489B-8B8A-9765EAC2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10DCD-E912-4DFA-994E-579340E4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195A9-34BF-48B5-90A5-C85085A3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4CB16-B79E-4021-8FB7-A3ED255B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735D4-0F8E-4507-BE4C-B9374978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B5956-EEC0-41F2-832B-AF9E870B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BC54-1AB1-411D-8D86-008CE0CC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CFCB-DC3C-482F-A178-4DAC239E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F8C9-8C4D-4975-A254-EFF3BEAD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9C9-45BA-40C7-8C51-BB395C7B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1EB5-48DB-48AD-8CE2-B886C1F9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047D-D6D9-4295-9517-84CBF1FA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A3D7-2B31-4470-AF6F-FF671084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D674-9697-4FF9-A89B-AFAE19AC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00C9-2782-47DE-B003-9F470F27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9722-6074-464D-89D9-BC44283A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AB04C-153A-4883-8F82-8EFD5EF1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7C8C-8C2B-4714-B4A1-9E437ABD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6AB3A-4DF7-4B30-B56E-CDEF0414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0491-5947-4D54-B7F2-07E0F28E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EF9-CA78-482A-8509-0261934F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2E3E5-3DE5-4164-A466-66FF852F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F8FFE-5C1B-4AF8-A77F-EBB33BA7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99AF-17D1-4628-A237-1B204572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1F4E0-99A5-4B2F-ACCB-7D24CF1C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39271-DBB6-42A2-9DEA-55736616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1335D-2FCC-43CC-BFAE-A37464DE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1D2F3-217E-4232-92CF-BFEFCB40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54470-724E-4990-8646-A0601112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CF6F7-7661-4A15-89B7-1AA8AC61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52157-09FA-40C6-B2CE-9BA5565D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4ADC-8752-4BDF-94EC-4F5A84A9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A59BE-A13D-4177-A8D4-F29CF5BD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39C9D-8CD8-4B3B-A7E2-78FDD043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59B80-7E13-4CC6-BB91-24A60989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D789C-7476-4AB2-BE3F-56282C63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29472-0478-4CED-9D9E-B8EF3790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9A8BA-0353-47DD-BCB1-28AD7BEC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1765B-C906-419F-9292-E06E9BFA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59CE1-8688-44D9-A13E-D127D4B3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19FB3-54B4-4E69-B87D-E7C4AB36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F5D11-ACE3-4BFF-948D-F0CEE9BB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8A4-9B57-4F0F-A411-605AD2DF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D3234-627C-4FD6-8AD4-B150CE25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DB834-F4C2-4250-9D8F-EF5DDABB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F5DD2-BF94-4662-869A-D0C60B44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79D2F-D585-4CD1-B5A1-577B2D41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14016-610C-45A8-9104-C4A13B01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5E0DA-4EF5-40AD-9656-4D78EA16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3D6D1-F896-4698-BF10-2F8B4AEA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4D2A46-6163-4A11-B782-05010FAC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B634D-40E6-4177-87F7-4C017185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796D3-D7D5-4D92-8A0C-BEC8286E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691-E03F-42B6-A3F4-6AC5F7D0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2DB13-63A1-4561-B0F5-D750EF18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8146A-D83D-43CB-BBEE-11B424FA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FDF6B-4C1B-4A59-81F5-C32F5501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CD73C-0B8A-4149-B3C0-07ABA9C8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87790-D021-46EE-A88F-4592E58B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F4159-E099-4354-B1B9-D380DE50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4ECA4-6672-4F2D-B661-B3E4FD27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C37ED-249C-45B3-ADD8-1DA76035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BCE8B-F466-4DA3-B675-A38AEBE4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C02E7-DE39-433D-9CD1-6A119F90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433-5C27-4F64-8602-AB98F5E7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23C22-07D8-4DC4-A708-1DFF44EA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AC414-7A2C-417A-A6CC-54498D9C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41D80-D1FE-441E-8542-B254E5EC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69730-63C8-4542-B933-E71BA9FA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6A379-4DEC-4F46-B7E7-DFBDC5D3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7AF7C-342F-4384-BCD4-D2F4EAC6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82A02-13A4-4CBD-B257-397259FB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BF720-4299-4BEF-8353-365DC440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8D4D3-F00F-4D16-9B23-F53B3ED7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14994-EF3B-4234-93F9-41ECFC7B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C2A-7F72-48AB-9A55-3D819CBB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AA4A8-9B4D-45DD-9913-D7E08C57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0CF9E-E276-44A0-9B18-295FC4FB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BBA6D-7397-4C03-AD4B-9E1583D0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D4CFE-F0EE-44E0-A1C3-0AB78A2F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C863F-B9F7-4F89-8638-9B2CE7E2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2F4D0-F36B-4C92-9CEF-C5D7366B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D93A4-7BF9-40CC-A0F3-6F178E8C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A63F7-B07B-45CB-91DC-ED190E3E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D4842-0482-4F43-9D52-4AFE3B3D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0A14F-8B29-45CB-B179-AA66F246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9C8-099B-4A5E-9AC4-C9021DCC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FB694-7EEB-46A5-BD38-AD8E3ACF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A9565-50C6-4397-BF07-A372D2ED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96CE1-1339-4CAA-B8C3-5E700AF7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B2653-852D-474B-813E-65A26F46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C9824-CD52-4E6C-ADB9-2F714703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37466-1840-4FA0-9F11-8BE250D1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6A515-C2BF-4AEA-B23E-6F1541C1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AF452-B6F7-4712-BEB7-D3BB8C70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85DAB-E041-4E06-91E3-50CE4E21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8EF8C-A5E7-4713-BBF7-D8F25578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5D76-7435-4859-90D3-4C4B07C5CE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710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dt" idx="28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ftr" idx="29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30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3B6A-0F13-4083-9842-68EC08464D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059D-D956-4142-874C-FE7ED558D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5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5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0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0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31F4-377E-46B7-B1A2-694EE6BBC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5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6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86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87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87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7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A8F2-3562-47A6-8AFD-9F285AC626B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93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93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5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95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96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96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96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8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5163-6721-4A6A-970C-BBDB79D67F6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6F6B-D610-4FD8-96C7-E122E1F312C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0BAF-8F8C-4032-B923-F0A014FEFD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8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8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E244-AA08-4631-A573-543574ADB89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3012-7AEE-4644-8751-9903F1565C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7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16A1-02E9-4E83-893C-5384C872ED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3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A3DD-046A-4A46-B9F0-13B854869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CBA2-9533-47C3-9F38-F6A72F7F19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65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D95A-35AA-4F61-9BE0-E864409D60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&#1060;&#1072;&#1081;&#1083;:Backing_sheep_at_sheepdog_competition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Impact"/>
              </a:rPr>
              <a:t>ДИКИЕ ЗВЕРИ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хипова Я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32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ГП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09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6034320" cy="44956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Какая пословица гласит о том, что дикого зверя нельзя приручить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e929"/>
                </a:solidFill>
                <a:latin typeface="Tahoma"/>
              </a:rPr>
              <a:t>«Сколько волка не корми, а он всё в лес смотри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Желаю вам успехов в получение новых зна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2579760" cy="3895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10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Возможно ли приручить дикого зверя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457200" y="2060640"/>
            <a:ext cx="4546440" cy="340992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2"/>
          <a:stretch/>
        </p:blipFill>
        <p:spPr>
          <a:xfrm>
            <a:off x="5035680" y="2060640"/>
            <a:ext cx="3289320" cy="3600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Georgia"/>
              </a:rPr>
              <a:t>Назовите одомашненных животны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4140360" y="3716280"/>
            <a:ext cx="2879640" cy="252720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Щ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Соба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Лесные хорь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ВОЯД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Овц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з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Лошади, во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БЕСПОЗВОНОЧ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чёл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товый шелкопря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7" name="" descr="Backing sheep at sheepdog competiti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557360"/>
            <a:ext cx="145764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Знаете ли вы каких животных          нельзя приручить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Чёрный ворон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Кабан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Лошадь Пржевальского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4016520" y="1919160"/>
            <a:ext cx="3993840" cy="21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их животных уже не существует в природ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блезубый тиг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мо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прачный тапи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дийский носор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4572000" y="1771560"/>
          <a:ext cx="419112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71560"/>
                    <a:ext cx="419112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Monotype Corsiva"/>
              </a:rPr>
              <a:t>Какие вы знаете изменения признаков после одомашнивания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Сокращение массы мозга на 20-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ритупление остроты восприятия(зрение, слух, обоняни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Изменение или исчезновение некоторых форм поведения( к примеру- понижение агрессив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Уменьшение зубов и ро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оявление разнообразных мастей и окр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Редукция волосяного покрова (свинь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Менее развитый инстинкт защиты потом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овышенная плодовит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Кто был предком домашней лошади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781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3995640" y="1844640"/>
            <a:ext cx="3751200" cy="3195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ути одомашнивания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уть привыкания животного к челове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сильствен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5796000" y="1268280"/>
          <a:ext cx="190656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1268280"/>
                    <a:ext cx="190656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4" name="" descr=""/>
          <p:cNvPicPr/>
          <p:nvPr/>
        </p:nvPicPr>
        <p:blipFill>
          <a:blip r:embed="rId3"/>
          <a:stretch/>
        </p:blipFill>
        <p:spPr>
          <a:xfrm>
            <a:off x="3924360" y="3429000"/>
            <a:ext cx="183672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ервое, прирученное человеком животное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БАКА, предком которой был вол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5800680" y="1600200"/>
            <a:ext cx="1733760" cy="2185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5338800" y="3938760"/>
            <a:ext cx="26575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43:52Z</dcterms:created>
  <dc:creator>User</dc:creator>
  <dc:description/>
  <dc:language>en-US</dc:language>
  <cp:lastModifiedBy>07083</cp:lastModifiedBy>
  <dcterms:modified xsi:type="dcterms:W3CDTF">2009-11-05T13:14:12Z</dcterms:modified>
  <cp:revision>13</cp:revision>
  <dc:subject/>
  <dc:title>ДИКИЕ ЗВЕРИ</dc:title>
</cp:coreProperties>
</file>